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248-3E6D-4D51-BDBE-B204B58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C5B-A45C-46EE-9A3D-7E86720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BDA-4F0A-4474-AB39-3414AC4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244-8489-4366-AC1B-D839DB48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3B1-54EA-4B52-9119-50BB1C0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9B3-AFCE-4E7A-9C9B-DC4730B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094-9637-4BEC-83B4-2F2B3A98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FAE-B3B9-46EB-B66E-ECFB76A5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67A-738A-4CAF-AD63-7473F51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7DF-63A3-46E3-A6FC-EEBFE92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236-D02B-4925-98EA-7162FE0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EE0-C882-4C22-A528-652A9AF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2D7-F892-41C0-875B-9B148E496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76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ids/bases play an important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057400"/>
            <a:ext cx="693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atteries, citric acid in fruits, antacids, household cleaners –EX: Phosphoric acid -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200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ste s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ange color (red) of an acid-base indicator—blue to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or weak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ste b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eel slipp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hange (blue) the color of an acid-base indicator – red to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or weak electrolytes in aqueous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henius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dude said that acids are hydrogen-containing compounds that ionize to produce hydrogen 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8195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ases, then, are compounds that ionize to produce hydroxide ions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581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heniu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86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istinguish acids based on the number of ionizable hydrog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4648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onoprotic = 1 ionizable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029200"/>
            <a:ext cx="624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Nitric acid (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protic = 2 ionizable hydr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37160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ulfuric 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riprotic = 3 ionizable hydr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057400"/>
            <a:ext cx="63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phosphoric 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362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compounds that contain hydrogen are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666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the hydrogen in an acid may be released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only those in very polar bond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ionizable). These hydrogens are joined in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very electronegative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038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ose that are ionizable dissolve in water, they release the hydrogen ions because those ions are stabilized by so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Hydrogen chloride molecule (highly 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cl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3511440" cy="185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5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heiu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dium hydroxide (ly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7339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onic solid that dissociates into sodium ions and hydroxide ions in aqueous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4495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OH(s) ----&gt;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419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76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tremely caustic, therefore used to clean/unclog d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 1A elements react with water to produ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that are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144792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(s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NaOH 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sted-Lowry Theory on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 idea of what acids and bas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590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 are a hydrogen-ion donor while bases are a hydrogen-ion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35268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new idea includes compounds not in the Arrhenius theory as acids or bases. EX: ammoni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114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mmonia now qualifies as a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572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it is highly soluble and when it reacts with water it acts like a base because it accepts a hydrogen ion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(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38120" y="121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1371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monia             water            ammonium ion      hydroxide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75248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-ion acceptor     H-ion donor                                    makes it 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0574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causes the hydroxide-ion concentration to be greater than it is p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743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jugate Acid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3526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(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65724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733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ACID                  CON. ACID       CON.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acid: particle formed when a base gains a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724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base: particle that remains when an acid has donated a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jugate acids and bases are always paired with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or an acid,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37160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 molecule which gains a hydrogen ion becomes a positively charged hydronium ion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times water can accept a hydrogen ion or other times it can donate.  When a substance can do both = amphot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971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352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guy states that an acid accepts a pair of electrons during a reaction, while a base donates a pair of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4038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acid is a substance which can accept a pair of electrons to form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base is a substance that can donate a pair of electrons to form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1%20001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2730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96252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 (Bronsted-Lowry acid) can accept a pair of electrons in forming a bond, becoming a Lewis acid.  A Bronsted-Lowry base (substance that accepts a hydrogen ion) must have a pair of electrons available for it to be a Lewis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Bas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828800"/>
          <a:ext cx="7086240" cy="28623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1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hen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produ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- produ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nsted-Low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do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ac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w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 pair ac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 pair do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02:42Z</dcterms:created>
  <dc:creator>Farwell Area Schools</dc:creator>
  <dc:description/>
  <dc:language>en-US</dc:language>
  <cp:lastModifiedBy>Farwell Area Schools</cp:lastModifiedBy>
  <dcterms:modified xsi:type="dcterms:W3CDTF">2009-05-06T13:45:37Z</dcterms:modified>
  <cp:revision>21</cp:revision>
  <dc:subject/>
  <dc:title>Note Guide 10-1 </dc:title>
</cp:coreProperties>
</file>